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9BF-8566-4B28-AA58-F79581FB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9E8-E3A5-43BA-9221-6E3D9F27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A9F-B094-41D9-ACBD-1CF4D6B4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42B-45AA-4E72-8923-A12A13A3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338-CB13-45EC-9A48-EE7C2F1D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7EB-A57E-410B-8ACD-35DCB617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FFF-830A-4EF7-A9BC-F8A9766C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ECC-D410-4949-9D5E-CB79CF31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87E-203A-4625-B32B-150B73B0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1D1-F509-46D5-82AA-93FE1B18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96B-1FB3-4E47-8984-54BB8577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E5A-8A4E-40E3-9E84-936625BC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3337-79DA-4CFC-93CE-573FEE075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google.com/imgres?q=montana+state+flower&amp;hl=en&amp;biw=948&amp;bih=471&amp;tbm=isch&amp;imgrefurl=http://www.statesymbolsusa.org/South_Dakota/flower_pasque.html&amp;tbnid=jn4z7DTR-p1y3M&amp;docid=V1Q8FoN7j6VmnM&amp;ved=0CGoQhRYoAQ&amp;ei=NhexT6GdH4LV0QHinLGXDA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ISON DEV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Montana Image"/>
          <p:cNvPicPr/>
          <p:nvPr/>
        </p:nvPicPr>
        <p:blipFill>
          <a:blip r:embed="rId1"/>
          <a:stretch/>
        </p:blipFill>
        <p:spPr>
          <a:xfrm>
            <a:off x="1905120" y="216000"/>
            <a:ext cx="4952880" cy="2421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29200" y="4336920"/>
            <a:ext cx="4114800" cy="252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303800"/>
            <a:ext cx="41148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ana’s 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ana’s capital is Hele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ana’s State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ana’s statehood is November 8,1889(41st 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621240"/>
            <a:ext cx="4572000" cy="323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ana’s B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ana’s bird is the western meadowl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334120" cy="4800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809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ana’s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ana’s flower is called bitter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098800"/>
            <a:ext cx="4648320" cy="4759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133720"/>
            <a:ext cx="449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3:37:06Z</dcterms:created>
  <dc:creator>Mother of Divine Grace</dc:creator>
  <dc:description/>
  <dc:language>en-US</dc:language>
  <cp:lastModifiedBy> </cp:lastModifiedBy>
  <dcterms:modified xsi:type="dcterms:W3CDTF">2012-05-20T21:21:22Z</dcterms:modified>
  <cp:revision>3</cp:revision>
  <dc:subject/>
  <dc:title>Montana</dc:title>
</cp:coreProperties>
</file>